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F0583-FA39-4C78-B5FC-D02A74131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laceholders are filled in when SQL is executed, does excellent job of quoting, otherwise consider $dhb-&gt;quo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pare_cached hold statement handles in memory after subroutine has fin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getting input from a user, beware of hidden input, such as 12345’ or emplid = emplid or emplid = ‘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laceholders are almost always better, quoting is automatic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etchrow_hashref a bit slower, but easy to see what’s happening and table structure changes don’t break your code, if you select the entire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ing fetchrow_array() to get two scal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de snippet used to archive paid bills because directory gets too big, 300,000+ files, invoice number is part of bills text file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etch used in loop to determine which bills should be archi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ly some fetch methods are shown, other available, consult perldoc DBI or other docs for all fetch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%Xlat and $sql are defined somewhere 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s are great, fast ways to keep data at your fingertips, but remember they are stored in memory, so don’t ab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ash values are shown in alpha order but are not necessarily stored in that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$Active is a hash reference to an employee data row being proc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astest way to fetch data by a significant mar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turn values bound to one memory location(that’s why it’s a reference to a scalar/array variable, or has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ach row goes to same location, so can’t access previous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only shows how, probably not a great example since only a few rows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ind is after execute, per DBI docs, for por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n use $bind_col one column at a time and bind to values in an array or hash, so you don’t have to keep track of large number of scal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lectall_hashref prepares the passed SQL and executes it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n use selectall_hashref or selectall_array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similar to the use of the fetchall_* stat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lso shows example of getting the new row inserted value of the serial value woind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BI – Module Database Independent Interface For Pe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BD::Informix – Informix Database Driver For Pe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BI and DBD::Informix are object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ire subroutine which shows a users Elite File Manager files to them in 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on’t need to use MyLib::, but that fully qualifies it, just in case there are more than one routines of that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ly really want the name in first to last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 “runner” need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fault_informix_tcp is another ‘default’ module, which simply replaces _shm in the Informix server name with _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Arial"/>
              </a:rPr>
              <a:t>sub default_informix_tcp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Arial"/>
              </a:rPr>
              <a:t>my $InformixTCP = $ENV{INFORMIXSERVER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Arial"/>
              </a:rPr>
              <a:t>$InformixTCP =~ s/_shm/_tcp/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Arial"/>
              </a:rPr>
              <a:t>return $InformixTC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Arial"/>
              </a:rPr>
              <a:t>} ### End Of SubRoutine default_informix_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dules like DBI, DBD::Informix, DBD::ODBC, Text::Wrap, CGI, LWP, SendMail::, XML::, SpreadSheet::WriteExcel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ashes are collections of variables indexes by strings rather than numeric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ved application code from AIX/Informix to Windows/SQL Server with very minimal changes. (Only really changed data source to be ODB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lob fields can be selected, inserted and deleted but not upd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lobs should be stored 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@{$sth-&gt;{NAME}} returns column names being selected, @{sth-&gt;{NUM_OF_FIELDS}} the number of fields being s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lect[row|all]_[array|arrayref|hashref] methods combine prepare, execute and fetch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$dbh-&gt;func() can be used to get tables in database, columns, views and other Informix database specific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atement handles / cursor for update example from DBD::Informix, works for updates and del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ows affected accessible by $rv = $sth-&gt;do() or $sth-&gt;rows, however not effective with select statements. I don’t use this, I count rows when I want to know what happened. Returns –1 if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e DBI docs for many more helpful links and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thanks for their continued support and maintenance and their patience with newb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e strict should be after other use statements, in case modules don’t ‘use strict’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Variables $Var, @Var, %Var are all different and ok, probably not clear but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alk about qualifying variables like $DBI::errstr and autoviv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e’s More Than One Way To Do It: Perl Mo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q# in my code purely f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me of the examples shown are from perldoc DBI or perldoc DBD::Infor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nections are Database Hand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opBlanks can not be specified in the inline attrib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mits are done at the handle level, like 4gl, but consider having multiple handles to the same database to commit “part” of a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@ Must Use 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populated $DBI::errstr or $dbh-&gt;errstr contains the SQL Error number and the ISAM error whe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ould remember to disconnect from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rst statements simply exec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s_teamleader_sth is prepared and then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o can only be used with non-select SQLs, unless the select is a select …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r die” is not required, maybe not even desired if RaiseError/PrintError are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ecution of select statements return the value of ‘0E0’ which is both true and zero, or undef if it err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68A-E930-4D73-A78B-04860B0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66F-86AB-48FC-AE54-9087E678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0D5-D540-481D-869B-ECF652AE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60F-BF7F-4ED7-971F-7008626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C6-44BF-4C1C-83B6-ED803CA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50D-37DC-4761-B690-10E30BA3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4D5-9D33-4755-A635-3F4DF3B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494-556D-40BF-9A59-E98308B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952-341A-4EDF-B870-F84393F3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38E-841B-4497-98FA-C58C543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D06-6798-4FDB-96C8-50AE267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389-8645-42C6-B900-7DAA471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286F1-42A3-4B9C-9AEF-0D52DF31B9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Using Perl &amp; DBI/DBD With Informix Databases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arryl Pr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BA / DLA Pi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80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0880"/>
            <a:ext cx="8229600" cy="459720"/>
          </a:xfrm>
          <a:prstGeom prst="rect">
            <a:avLst/>
          </a:prstGeom>
          <a:solidFill>
            <a:srgbClr val="f4f4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ix User Forum 2005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oving Forward With 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5753160" cy="123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tlanta, Georgia                                                                      December 8-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tching Data with Plac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select emplid, contact_name, relationship,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rom ps_emergency_cnt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ere emplid = 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rder by primary_contact desc, contact_name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get_emerg_contact_sth = $ps_dbh-&gt;prepare_cached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emerg_contact_sth-&gt;execute(“12345”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even better, using a scalar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InEmplid = “12345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emerg_contact_sth-&gt;execute($InEmplid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cessing Fetch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select rttype, rtdesc from crltype order by 1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get_party_type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party_type_sth-&gt;execu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(@Row, $PartyType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ile ( @Row = $get_party_type_sth-&gt;fetchrow_array()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PartyTypes{$Row[0]} = $Row[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me thing using hash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($Row, %PartyType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ile ( $Row = $get_party_type_sth-&gt;fetchrow_hashref()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PartyTypes{ $Row-&gt;{rttype} } = $Row-&gt;{rtdesc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cessing Fetched Data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opendir (BILLDIR, “/bills”) or die “Error Opening $BillDir $!\n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sql = qq#select count(*), sum(lamount) from led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where linvoice = ? and lzero != "Y"#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$check_sth = $dbh-&gt;prepare($sq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while ( defined ($File = readdir(BILLDIR) ) 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@FileNamePieces = split(/\./, $Fil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InvoiceNumber = $FileNamePieces[1]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check_sth-&gt;execute($InvoiceNumb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($NotPaid, $Amount) = $check_sth-&gt;fetchrow_array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if ( $NotPaid &gt; 0 ) { print "Not Paid, $NotPaid Ledger Items"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else {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New = "$ArchDir/$File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ove($OldFile, $New) or die "Move $OldFile To $New Failed: $!\n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chmod $Mode, $NewFi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cessing Fetched Data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sql = qq#select fieldname, fieldvalue, xlatlongname, xlatshort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from xlattable 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where effdt = ((select max(effdt) from xlattable x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where x1.fieldname =  x.fieldnam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x1.fieldvalue =  x.fieldvalu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x1.effdt &lt;= TODAY and x1.language_cd = "ENG"))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x.fieldname in ("EMPL_TYPE", “ETHNIC_GROUP”, “SEX”, “MAR_STATUS”,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"FULL_PART_TIME“, "EMPL_STATUS", "PHONE_TYPE")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x.language_cd = "ENG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order by 1,2;#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$get_xlat_sth = $ps_dbh-&gt;prepare($sq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get_xlat_sth-&gt;execu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($XlatRow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while ($XlatRow = $get_xlat_sth-&gt;fetchrow_hashref()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Xlat{ $XlatRow-&gt;{fieldname}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{ $XlatRow-&gt;{fieldvalue} } = { longname  =&gt; $XlatRow-&gt;{xlatlongname}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      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shortname =&gt; $XlatRow-&gt;{xlatshortname} }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cessing Fetched Data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vious example loads %Xlat hash with values such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MAR_STATUS}-&gt;{A}-&gt;{longname} = “Head of Househol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MAR_STATUS}-&gt;{A}-&gt;{shortname} = “Hd Hsehl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MAR_STATUS}-&gt;{M}-&gt;{longname} = “Married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MAR_STATUS}-&gt;{M}-&gt;{shortname} = “Married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SEX}-&gt;{F}-&gt;{longname} = “Female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SEX}-&gt;{M}-&gt;{shortname} = “Male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sh values are referenced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SEX}-&gt;{ $Active-&gt;{sex} }-&gt;{shortname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Xlat{MAR_STATUS}-&gt;{ $Active-&gt;{mar_status} }-&gt;{longname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nding Columns To Fetch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select pcode, pde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rom pracc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ere pdesc is not n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rder by 1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get_praccodes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praccodes_sth-&gt;execu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($b_pcode, $b_pdesc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praccodes_sth-&gt;bind_columns(undef, \$b_pcode, \$b_pdesc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ile ( $get_praccodes_sth-&gt;fetch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PracCodes{ $b_pcode } = $b_pdes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nding Columns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select cmatter, to_char(cdisbdt, '%m/%d/%Y') cdisbdt, cbillam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from c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ere cmatter is not null;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get_cost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(%CostRow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cost_sth-&gt;bind_columns(undef,             \$CostRow{cmatter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\$CostRow{cdisbdt}, \$CostRow{cbillamt}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ile ( $get_cost_sth-&gt;fetch()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…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o Something With %CostRow Hash Values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ffffff"/>
                </a:solidFill>
                <a:uFillTx/>
                <a:latin typeface="Courier New"/>
              </a:rPr>
              <a:t>Alternate syn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th-&gt;bind_col($col_num, \$col_variab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th-&gt;bind_columns(@list_of_refs_to_vars_to_bind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eparing &amp; Fetching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sql = qq#select emplid, name_first2last name from pm_employees_v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NamesRef = $dbh-&gt;selectall_hashref($sql, "emplid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ile ( $PeopleRow = $get_people_with_subitem_sth-&gt;fetchrow_hashref() 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if ( defined $NamesRef-&gt;{ $PeopleRow-&gt;{emplid} }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print "- $NamesRef-&gt;{ $PeopleRow-&gt;{emplid} }{name} "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print “- Unknown”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erting 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0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are The Insert Statement H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insert into winoutstat(wouser, wouser1, woreport, wotitle, wofil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odate0, wotime0, wostat1, wop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ues(?, ?, ?, ?, ?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?, ?, ?, ?);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ins_win_sth = $el_dbh-&gt;prepare_cached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 The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ins_win_sth-&gt;execute($Logon, $Logon, "Reminders", $Title, $File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OutDate, $OutTime, "RUNNING", $$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@Errd = @{$ins_win_sth-&gt;{ix_sqlerrd}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Hold{woindex} = $Errd[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ffffff"/>
                </a:solidFill>
                <a:uFillTx/>
                <a:latin typeface="Courier New"/>
              </a:rPr>
              <a:t>Alternate syn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Hold{woindex} = $ins_win_sth-&gt;{ix_sqlerrd}[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eletin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are The Delete Statement H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delete from pm_remin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ere matter_num = ?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ocation = ?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run_date = TODAY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run_by = ?;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del_remind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lete Row(s) Based On Passed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el_remind_sth-&gt;execute($MatRow-&gt;{mmatter}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Hold{location}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ThisLog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DBI &amp; DBD::Inform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Per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BI/DBD::Informi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l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c SQ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SQLs (Inserts, Delet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ting It All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, But Not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sing DBI With CGI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2306520"/>
          <a:ext cx="8229600" cy="20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06520"/>
                    <a:ext cx="8229600" cy="20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sing DBI With CG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ub show_elite_files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header(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tart_html(-title=&gt;"User File Manager"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style=&gt;{'src'=&gt;'/styles/inSite_Style.css'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= qq#select woindex, woreport, wotitle, wodate0, wotime0, wodate1, wotime1, wodesc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rom winoutst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here (wostat1 = "COMPLETE" or wostat2 = "COMPLETE") and wouser = 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order by wodate0 desc, wotime0;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get_files_sth = $el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files_sth-&gt;execute($ThisLogon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FileRow, $ViewLink, $ShowDate, $Coun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Count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hile ( $FileRow = $get_files_sth-&gt;fetchrow_hashref()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ViewLink = a({-href=&gt;“getfiles.cgi?Session=${InSession}&amp;FileNum=$FileRow-&gt;{woindex}"}, "Archive"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howDate = "$FileRow-&gt;{wodate0} $FileRow-&gt;{wotime0}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FileRow-&gt;{wodate0} ne $FileRow-&gt;{wodate1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howDate .= " - " . $FileRow-&gt;{wodate1} . " " . $FileRow-&gt;{wotime1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if ( $FileRow-&gt;{wotime0} ne $FileRow-&gt;{wotime1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howDate .= "-" . $FileRow-&gt;{wotime1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sing DBI With CGI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This Is The First File Printed, Print The Headers Fir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Count == 0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ThisName = get_user_name($ThisLogon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start_table({-width=&gt;'100%%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border=&gt;1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cellpadding=&gt;'5'}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NewLine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r ( th ({-colspan=&gt;'5'}, h4("Elite Report Files For User $ThisName") ) 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r ( th ( "&amp;nbsp" 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h ( h4("Report") 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h ( h4("Title") 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h ( h4("Report Date") 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h ( h4("Report Description") 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Print Information For This Fi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Tr ( td ({-align=&gt;'center'}, "$ViewLink"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d ({-align=&gt;'left'}, "$FileRow-&gt;{woreport}"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d ({-align=&gt;'left'}, "$FileRow-&gt;{wotitle}"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d ({-align=&gt;'center'}, "$ShowDate"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d ({-align=&gt;'left'}, "$FileRow-&gt;{wodesc1}"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Count++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sing DBI With CGI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No File Rows Found Show Error &amp; Back Button, Otherwi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Print The End Of The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Count == 0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br, br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extfield(-name=&gt;'ProcessMessage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size=&gt;'80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style=&gt;$ErrorStyle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maxlength=&gt;'80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value=&gt;"No Files Were Found In Your Elite File Manager!"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br, br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_back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print end_table(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end_html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 ### End Of SubRoutine show_elite_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efining Reusable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#!/usr/bin/pe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package MyLib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stric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require Exporte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vars        qw($VERSION @ISA @EXPORT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VERSION = 0.0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@ISA = qw(Export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@EXPORT = qw(get_names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sub get_names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($UseDbh, $Emplid) = @_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(@RetVals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$sql = qq#select first_name, last_name from pm_employees_v where emplid_s = ?#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$get_names_sth = $UseDbh-&gt;prepare_cached($sq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$get_names_sth-&gt;execute($Emplid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@RetVals = $get_names_sth-&gt;fetchrow_array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return @RetVal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sing Your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#!/usr/bin/perl –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stric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lib q{/perl/modules/}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use MyLib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……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if ( defined $Emplid 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my (@RetNames) = MyLib::get_names($dbh, $Emplid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if ( defined $RetNames[0] ) { $Name = $RetNames[0]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else { $Name = “Name Unknown”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base Connection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ub default_db_connect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DB, $Server) = @_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dbh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Server and length($Server) &gt; 1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 = DBI-&gt;connect("DBI:Informix:${DB}\@${Server}"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 = DBI-&gt;connect("DBI:Informix:${DB}", undef, undef, { PrintError =&gt; 0, RaiseError =&gt; 0 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! defined $dbh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erver = default_informix_tcp();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### Change INFORMIXSERVER To _tc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 = DBI-&gt;connect("DBI:Informix:${DB}\@${Server}"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dbh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-&gt;{AutoCommit} =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-&gt;{ChopBlanks} =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-&gt;{PrintError} =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dbh-&gt;{ix_LoggedDatabase} )   { $dbh-&gt;do("set lock mode to wait"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dbh-&gt;{ix_ModeAnsiDatabase} ) { $dbh-&gt;do("set isolation to dirtyread"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return $dbh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die "$DB Database Open Error, Error: $DBI::errstr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 ### End Of SubRoutine default_db_conne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571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!/usr/local/bin/perl -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cript Name: empl_info.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| =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Term::Siz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Getopt::Std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stric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lib q{/custom/perl/modules/bin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Default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e vars qw($opt_b $opt_c $opt_d $opt_e $opt_l $opt_n $opt_t $opt_v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Usage = qq#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Usage: empl_info.pl [ -b Show Blanks -c Columns -d Database -e Emplid -l Logon -n Name -v Verbose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b Show Data Columns That Are Unpopulated, Default Is To Sk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c Column Name Match To Be Report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d Database Server To Select Data Fr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e Employee ID To Re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l Employee Logon ID To Re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n Employee Name To Re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t Include Terminated Employees &amp; Contractor / Tem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v Verbose Column Outp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getopts('bc:d:e:l:n:tv'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Just In Case See If There's A Single Argu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@Args = @ARGV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Get User Input, Make Sure To Get An Emplid, Name Or Log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%In, $IncludeTerms, $ShowBlanks, $Verbos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b ) { $ShowBlanks = 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$ShowBlanks = 0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Specific Columns Are Requested, Make Sure Verbose Is On So All Columns 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Available, Also Make Sure If Phone Number Is Selected To Include Dial Prefi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c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In{columns} = $opt_c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In{columns} =~ /phon/ ) { $In{columns} .= "|dial_prefix"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opt_v =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d ) { $In{db} = “mydb\@$opt_d"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$In{db} = “mydb"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e ) { $In{emplid} = $opt_e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l ) { $In{logon} = lc($opt_l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n ) { $In{name} = lc($opt_n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t ) { $IncludeTerms = 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$IncludeTerms = 0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v ) { $Verbose = 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$Verbose = 0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No Options Were Passed, Check For Valid Argument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Or Die With Usage Display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! exists $In{emplid} and ! exists $In{logon}  and ! exists $In{name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Check The Possible Argument For Possible Us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Args[0] and length($Args[0]) &gt; 1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Args[0] =~ /^[0-9]{5}$/ ) { $In{emplid} = $Args[0]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if ( $Args[0] =~ /^[A-Z,a-z,\-\'\"]+$/ ) { $In{name} = lc($Args[0]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if ( $Args[0] =~ /^[A-Z,a-z,0-9]{1,8}$/ ) { $In{logon} = lc($Args[0]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die "\n$Usage\n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Looking For A Name Make Sure It Has Wild Car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In{name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In{name} !~ /[\*\[\?]/ ) { $In{name} = "*" . $In{name} . "*"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 Get Terminal Wid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Columns, $Rows) = Term::Size::chars *STDOUT{IO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PrintWidth = $Columns - 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Per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Module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vivification and Garbage Coll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 Manipulation &amp; Regular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Access And Interaction With System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G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de Reusability Using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et Default Columns String, Which Will Be Reported Unless Overridden With -c Or -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%DefaultColumns = (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assignments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_status_desc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ull_prt_time_desc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hire_date  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job_family 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gon_id   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ublished_phones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ecretaries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term_date  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ork_phone         =&gt; ''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Connect To Databa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pm_dbh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defined $opt_d ) { $pm_dbh = default_db_connect(“mydb", $opt_d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 $pm_dbh = default_db_connect(“mydb"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elect Emplid &amp; Name For Passed Emplid/Logon/Name Ma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sql, $Where, $TermSql, $Temp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= qq#select emplid, name_first2last, 'E' from pm_empl_search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TermSql = qq#select emplid, name_first2last, 'T' from pmhr_terminations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TempSql = qq#select emplid, name_first2last, 'C' from pmhr_temps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get_emplid_sth, $wher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WITCH: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exists $In{emplid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Where = qq# emplid =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IncludeTerms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 union $TermSql where $Where union $TempSql where $Where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emplid}, $In{emplid}, $In{emplid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emplid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ast SWITCH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exists $In{logon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Where = qq# lower(logon_id) matches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IncludeTerms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 union $TermSql where $Where union $TempSql where $Where order by 2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logon}, $In{logon}, $In{logon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 order by 2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logon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ast SWITCH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exists $In{name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Where = qq# lower(name_first2last) matches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IncludeTerms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 union $TermSql where $Where union $TempSql where $Where order by 2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name}, $In{name}, $In{name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.= qq# where $Where order by 2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 = $pm_dbh-&gt;prepare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emplid_sth-&gt;execute($In{name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ast SWITCH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Fetch All Employees Found For Passed Ma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EmplidRef = $get_emplid_sth-&gt;fetchall_arrayref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Only Employee Matches, Call Show Subroutine, Else Show List Of Match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And Allow User To Select In A Loop From The List And Re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ListsShown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@{$EmplidRef} &gt; 0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@{$EmplidRef} == 1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ist_empl_info($EmplidRef-&gt;[0][0], $EmplidRef-&gt;[0][2]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how_list($EmplidRef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Choic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hile (&lt;STDIN&gt;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chomp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_ =~ /[Xx]/ ) { last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Choice = $_ -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Choice &lt; @{$EmplidRef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ist_empl_info($EmplidRef-&gt;[${Choice}][0], $EmplidRef-&gt;[${Choice}][2]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how_list($EmplidRef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\n\nNo Matches Found For Passed Criteria\n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pm_dbh-&gt;disconnect();  ### End Of Main Program ###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ubRoutine: show_li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This subroutine list the passed list reference of employee ids and nam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ub show_list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ListRef) = @_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This Isn't The First Time This Was Call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ListsShown &gt; 0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Press Enter To Continue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hile (&lt;STDIN&gt;) { last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ListsShown++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x, $y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\n\n      Selected Employees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      -------- ---------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or ($x = 0; $x &lt; @{$ListRef}; $x++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y = $x + 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ListRef-&gt;[$x][2] eq "E"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f("%3d.) %s (%s)\n",  $y, $ListRef-&gt;[$x][1], $ListRef-&gt;[$x][0]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if ( $ListRef-&gt;[$x][2] eq "C"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f("%3d.) %s (%s) - Contractor / Temp\n",  $y, $ListRef-&gt;[$x][1], $ListRef-&gt;[$x][0])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f("%3d.) %s (%s) - Terminated\n",  $y, $ListRef-&gt;[$x][1], $ListRef-&gt;[$x][0]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\nEnter Choice(or x to exit): 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 ### End Of SubRoutine show_li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ubRoutine: list_empl_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This subroutine will list the employee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from pm_employees_v or pmhr_terminations based 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employee status for the passed empli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ub list_empl_info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ThisEmplid, $EmplStatus) = @_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Select All Potential Data Columns For Passed Emp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EmplStatus eq "E"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= qq#select * from pm_employees_v where emplid =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if ( $EmplStatus eq "C"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= qq#select * from pmhr_temps where emplid =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sql = qq#select * from pmhr_terminations where emplid = ?#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$get_pmdata_sth = $pm_dbh-&gt;prepare_cached($sql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get_pmdata_sth-&gt;execute($ThisEmplid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Define Output Format For Employee Data, The Format 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Defined Dymanically So It Will Fit The Screen Wid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(Each Output Line Of The format Is On One Line Bel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Only Define The Funtion The First Time Through Thoug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my ($Format, $Row, $Var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ListsShown &lt;= 1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$Format = "format STDOUT = \n"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" @&gt;&gt;&gt;&gt;&gt;&gt;&gt;&gt;&gt;&gt;&gt;&gt;&gt;&gt;&gt;&gt;&gt;: ^" . "&lt;" x ($PrintWidth - 21) . "\n"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'$Var' . ",               " . '$Row-&gt;{$Var}' . "\n"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" ~~                  ^" . "&lt;" x ($PrintWidth - 21) . "\n"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"                    " . '$Row-&gt;{$Var}' . "\n"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".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val $Forma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hile ( $Row = $get_pmdata_sth-&gt;fetchrow_hashref()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Print "Header" Of Employee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&gt;" x $PrintWidth, "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or $Var ( qw(emplid name_first2last location_desc long_jobtitle)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f(" %18s: %s\n", $Var, $Row-&gt;{$Var}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For Each Returned Colum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or $Var ( sort keys %{$Row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Var =~ /_s$/ ) { next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User Selected Specific Columns To Report, On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Report The Selected Colum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exists $In{columns}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Var !~ /$In{columns}/ ) { next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Not Verbose And This Column Isn't A Default, Skip I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! $Verbose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! exists $DefaultColumns{ $Var } ) { next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If Column Contains Data, Report It, Unless Blan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### Are To Be Shown, Then Set It To "" &amp; Print It Anyw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ShowBlanks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! defined $Row-&gt;{$Var} ) { $Row-&gt;{$Var} = ""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if ( $ShowBlanks or ( defined $Row-&gt;{$Var} and length($Row-&gt;{$Var}) &gt; 0 ) 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rit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int "&lt;" x $PrintWidth, "\n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} ### End Of SubRoutine list_empl_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0020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_info.pl -n "*Prie*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elected Employe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------- --------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1.) Darryl Priest (1234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2.) David A. Priest (1239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nter Choice(or x to exit):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id: 123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name_first2last: Darryl Prie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cation_desc: Baltimore - Mt. Washing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ng_jobtitle: Analyst / Developer Le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full_prt_time_desc: Full-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hire_date: 09/15/19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ork_phone: (410)580-30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ress Enter To Continu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elected Employe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-------- --------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1.) Darryl Priest (1234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2.) David A. Priest (1239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nter Choice(or x to exit)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4334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t Employee Data Example,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_info.pl -n Priest -c pho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id: 123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name_first2last: Darryl Prie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cation_desc: Baltimore - Mt. Washing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ng_jobtitle: Analyst / Developer Le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dial_prefix: 8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erg_phone: (410)555-12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home_phone: (410)555-12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published_phones: Work:(410)580-3000; Home:(410)555-1212; Direct Dial Fax Number:(410)555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1234; Main Business Fax Number:(410)580-123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work_phone: (410)580-30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_info.pl -n Priest -c date -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mplid: 123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name_first2last: Darryl Prie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cation_desc: Baltimore - Mt. Washing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long_jobtitle: Analyst / Developer Le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asofdate: 10/31/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birthdate: 12/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change_date: 09/10/2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eff_date: 06/27/2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hire_date: 09/15/19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rehire_dat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service_date: 09/15/19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urier New"/>
              </a:rPr>
              <a:t>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&l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DBI/DBD::Inform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 well t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Fetch Method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BM/Informix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Connection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upported, But Not Covered In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ssing The Informix SQLCA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code = $sth-&gt;{ix_sqlcode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errm = $sth-&gt;{ix_sqlerrm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errp = $sth-&gt;{ix_sqlerrp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@sqlerrd = @{$sth-&gt;{ix_sqlerrd}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@sqlwarn = @{$sth-&gt;{ix_sqlwarn}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 using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commit();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rollback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ith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do($stmt, undef, @parameter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do($stmt, undef, $param1, $param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oting with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quote($string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th-&gt;finish;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undef $s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ob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upported, But Not Covered, continu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$sth attributes, NUM_OF_FIELDS, NAME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DBI-&gt;trace($level, $tracefil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tch methods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selectrow_array()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selectall_array(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dbh-&gt;func(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ement Handles For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st1 = $dbh-&gt;prepare("SELECT * FROM SomeTable FOR UPDATE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wc = "WHERE CURRENT OF $st1-&gt;{CursorName}"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st2 = $dbh-&gt;prepare("UPDATE SomeTable SET SomeColumn = ? $wc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st1-&gt;execute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row = $st1-&gt;fetch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st2-&gt;execute("New Value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urier New"/>
              </a:rPr>
              <a:t>$sth-&gt;rows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.perl.org  - DBI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per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perl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cpan.org - Comprehensive Perl Archive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activestate.com/perl - Windows Based Perl 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ldoc DBI – DBI Man P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ldoc DBD::Informix – DBD::Informix Man P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arning Perl by Randal Schwart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gramming Perl by Larry Wall, Tom Christiansen &amp; Jon Orw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gramming the Perl DBI, by Alligator Descartes and Tim Bu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l Cookbook by Tom Chistiansen &amp; Nathan Tork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l Objects, References &amp; Modules by Randal Schwartz &amp; Tom Phoe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l Best Practices by Damian Con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the authors who brought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rry 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im Bu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igator Descar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nathan Leff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Using Perl &amp; DBI/DBD With Informix Databases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arryl Pr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BA / DLA Pi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80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0880"/>
            <a:ext cx="8229600" cy="459720"/>
          </a:xfrm>
          <a:prstGeom prst="rect">
            <a:avLst/>
          </a:prstGeom>
          <a:solidFill>
            <a:srgbClr val="f4f4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ix User Forum 2005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oving Forward With 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5753160" cy="1238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1928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tlanta, Georgia                                                                      December 8-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l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#!/usr/bin/perl -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riable Types (scalars, arrays or lists, hashes, referen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DB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stri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riable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MTOWT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# and qq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BI General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connections are referred to as database handles usually named $dbh, $ps_dbh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selection SQLs should follow the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pa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e, fetch, fetch, fetc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e, fetch, fetch, fetc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selection SQLs usually follow the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pa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bas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 = DBI-&gt;connect($data_source, $username, $auth, \%at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 = DBI-&gt;connect(“DBI:Informix:$database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 = DBI-&gt;connect(“DBI:Informix:$database", '', '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{ AutoCommit =&gt; 0, PrintError =&gt; 1 }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dbh = DBI-&gt;connect("DBI:Informix:MyDatabase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r die "MyDatabase Database Open Error: $DBI::errstr\n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{ChopBlanks} =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{AutoCommit} =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{PrintError} =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ps_dbh = DBI-&gt;connect("DBI:Informix:hrdb\@remote_tcp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r die "PeopleSoft Database Open Error: $DBI::errstr\n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dbh-&gt;disconnec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ic S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el_dbh-&gt;do("set isolation to dirty read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el_dbh-&gt;do("set lock mode to wait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create temp table temp_teamlea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(tkinit       char(5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teamleader   char(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) with no log in tempdbs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el_dbh-&gt;do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insert into temp_teamleader(tkinit, teamlead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lect udjoin, udvalue from ud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where udf.udtype = "TK" and udf.udfindex = 55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ins_teamleader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ins_teamleader_sth-&gt;execu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el_dbh-&gt;do("create index teamldr_idx1 on temp_teamleader(tkinit)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el_dbh-&gt;do("update statistics high for table temp_teamleader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tching Data (Static 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sql = qq#select rttype, rtdesc from crltype order by 1#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y $get_party_type_sth = $el_dbh-&gt;prepare($sql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$get_party_type_sth-&gt;execu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